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979-E4B9-4E0A-96E9-A0673E84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83F-AD71-46AE-8493-494EE1D05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ymptoms need attention from health care profession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 is known to be an aggravating factor in skin condit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any skin conditions diagno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F561-A06D-4AB9-9FBC-EEFDDD5D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es are small lesions of a different color than normal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ules are small, firm, elevated le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que is large elevated lesion wi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ules are elevated le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ts are dry, rough surface or dried exu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 is elevated lesions containing clear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ures are small, deep crack or tear i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are cavities with a loss of tissue from epidermis and der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kin lesion definitions, referencing Table 6-1 (p. 2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ce between a macule and a pap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kin layers does an ulcer a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8CA9-49D1-4BB5-9409-54DB7B7C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visual symptoms of ski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24E-4A47-4876-974C-73D0553E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24A-97E7-44A8-8C60-BBB2456C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yst and a blis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30F5-1AAD-424A-BA9F-48E17231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kin lesion is caused by a burrowing orga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32E3-591A-4FDA-8E92-0ED7BFE7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dermatitis: inflammation of sebaceous (oil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heredity play in ecze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soriasis and pla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7E5-0A16-460A-8EC7-0C63FDBF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 has a high rate of seborrheic dermatitis? (infants commonly suffer from “cradle cap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A742-18DD-457C-9B70-18366A6E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acne vulgar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s are most susceptible to acne vulgar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cautions should be taken by anyone taking Isotretin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retinoin is administered under an FDA program called IPLEDGE. Providers (physicians, nurse practitioners), patients and pharmacists must participate in the IPLEDG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groups are most susceptible to herpes zoster?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009-A854-4B7C-9CF5-1F8D8583A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shing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manif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recommended treatm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9918-4B48-4931-9BA9-98B2E0C5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impetigo lesions most likely to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ree common causes of impeti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acteria responsible for cellulitis most often enter the sk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importance of proper hand washing and cut treatment in preventing cellul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236-DFD4-4347-AF6A-40FE86F0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dermatophytoses: a chronic superficial fungal infection of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 determines the type of dermatophytos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what animal is a likely cause of ringw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dvertising for OTC remedies for skin conditions such as athlete’s foot and jock 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9D4-3E23-4660-B840-967060A5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complications from bed sores may have contributed to the death, e.g., that of paralyzed actor Christopher Ree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arts of the body are typically affected by l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itch mites and lice spread from person to per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ED7-8567-45B0-9828-1C3F05795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ighly contagious nature of these para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ethods of transm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ns do all of these have in comm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reatment regimens must be followed for l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reatments, primary and secondary, are indicated for scab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66B-90F7-4F99-BFDF-919B201A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ay be indicated by a sudden increase in number and size of seborrheic keratosis growth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reactions are thought to cause dermatofibro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linical manifestations of skin ta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264-55B1-4BD5-BBD8-4E4C4658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linical indications of actinic kerat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 of people are most at risk for actinic kerat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ifferences in treatment of benign and premalignant tum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2B42-A107-41E4-A08D-D1972222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evalent form of cancer worldwi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BCC and SCC usually not included on most cancer regist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 of epidermal melanocytes and malignant melanom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ADB7-39E5-4FAD-821D-A6436AB5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piece of protective clothing in guarding against excessive sun expo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inimum sun protection factor (spf) sunscreen that should be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id in early detection of skin carcinomas, what should adults do regular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guidelines chart (p. 25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8F2-58B8-4882-BEDC-693C3448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117440" y="5996160"/>
            <a:ext cx="893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3C40-109D-4734-B823-5F391EAD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different types of abnormal skin pig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d to whom does melasma ofte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which part of the body are port-wine stains usually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oles composed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E92-F68F-407B-B906-F966D0BA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treatment for mo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 variety of these conditions can be treated cosme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4CB1-1C6D-486C-839B-2D54012C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male-pattern bald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heredity play in causing baldness in 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systemic illnesses can cause bald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ew drugs have been introduced to help prevent bald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452-5270-406E-8B14-9A5A7B36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type of wa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warts sp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diseases that can cause deformed or discolored nail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 nails damaged by injury usually take to grow b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DDE-91E9-4583-8A22-A1DA3240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CC6-F66E-4DD7-92B3-CAFABAB0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9D4-8CF3-40A9-B374-9E1A7C4F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derly functioning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ponents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ccessory organs of the integumentary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C4C-440D-4AE8-9C82-5D971DA2B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derly functioning of the integumentary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components of the integumenta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ccessory organs of the integumentary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24AF-F147-44EB-8D52-BE404CFD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unctions of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and discuss the three layers of skin: epidermis, dermis, and subcutaneous l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layer gives skin its strength and elast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aneous lesions or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ritis (it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 (swell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ythema (red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Skin Condition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ew Common Skin Les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5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t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1465200"/>
            <a:ext cx="3795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3800" y="1465200"/>
            <a:ext cx="2590920" cy="1930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988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3809880"/>
            <a:ext cx="27432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differences between a macule and a pap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ule: small, flat, circumscribed lesion of different color than the rest of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ule: a small firm, elevated le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3800" y="1465200"/>
            <a:ext cx="264168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2819520" cy="21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28191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Les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2590920" cy="19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2590920" cy="1960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25909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borrheic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pic dermatitis (ecze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r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differences between seborrheic dermatitis and contact derm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orrheic dermatitis – idiopathic condition resulting in overproduction of seb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dermatitis – localized redness and swelling caused by an irritant or aller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ne vulgar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inflammatory disease of the sebaceous glands and hair foll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pes zoster (shingl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cute inflammatory dermatomal eruption of painful ves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pox is a precursor to shi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re caused by the herpes varicella-zoster vi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2286000"/>
            <a:ext cx="73152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and Conditions of the Integumenta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etig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gious, superficial skin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llul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, diffuse, bacterial infection of the skin and subcutaneous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mon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rmatophyto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ap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orporis (ringw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ungu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pedis (athlete’s fo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a cruris (jock itch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ubitis ulcers (bed sor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lized areas of dea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bi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estation by parasitic insects called itch 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culu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estation by lice; wingless parasites that feed on huma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iseases of the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iseases of the Sk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that infest the head and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diculus humanus capit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lice that infest the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diculus humanus corpor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lice that infest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hthirus pub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ubic lice (cra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rcoptes scabi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tch mi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nign Tum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borrheic kerat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 growths originating in the epiderm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matofibro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, asymptomatic growths that can be found anywhere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hrochordon (skin tag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on benign skin growths found mainly on the axilla, neck, and inguinal areas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malignant Tum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nic kerat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on pre-malignant lesions found on sun-exposed areas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 an area of rough, vascular skin, which later forms a yellow c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melanoma skin 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al cell carcinoma (B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(S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melan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BCs of malignant melano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asymme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= b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=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= di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in Carcinom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tection of Skin from the Su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exposure 10 a.m.– 3 p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outdoor activities for early morning or late aftern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 protective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un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functions of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common skin le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seborrheic dermatitis affects the s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common causes of contact dermatitis, atopic dermatitis, and psori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bnormal Skin Pigmen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binis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ability to produce melanin (inheri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tilig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le, irregular patches (may be an immune system dis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lasma (chloasma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ches of darker skin on the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mangiom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nign lesions of highly vascularized skin; they may be flat (port-wine stains), elevated, or protub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bnormal Skin Pigme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vi (mole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mall, dark collections of melanoc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yria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ungal infection; causes patches of flaky, light, or dark skin on the tru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normal sunta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 darkening of the skin resulting from properly used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14400" y="2514600"/>
            <a:ext cx="7315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uses of Alopecia (Baldness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rucae (wart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rts are elevated growths of the epidermis that result from hyperpla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ormed or discolored nai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y unusual thickening, color variation, or change in shape of fingernails or toen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Common Diseases of the Sk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treatment of acne vulgar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the pathologic course of herpes zo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the etiology of impet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why the treatment of cellulitis is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e examples of classifications of fungal infections of the sk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preventative measures for decubitis ul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 two most common parasitic insects to infest m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nfestation can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wo common premalignant tum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 the three types of skin canc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guidelines for avoiding excessive sun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some conditions that are caused by the abnormal development or distribution of melanocy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some possible causes of alope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the cause of wa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some of the likely causes of deformed or discolored n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4922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pter 6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 6.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and accessory org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utaneous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nents of the Integument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rmal Ski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7:41:01Z</dcterms:created>
  <dc:creator>Michael &amp; Eleftheria Parafink</dc:creator>
  <dc:description/>
  <cp:keywords/>
  <dc:language>en-US</dc:language>
  <cp:lastModifiedBy>azhagubalan</cp:lastModifiedBy>
  <dcterms:modified xsi:type="dcterms:W3CDTF">2008-01-31T10:33:10Z</dcterms:modified>
  <cp:revision>83</cp:revision>
  <dc:subject/>
  <dc:title>Slide 1</dc:title>
</cp:coreProperties>
</file>